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FC2-AC3B-4A82-A998-D64ADE54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245-C502-42BE-8A3D-81C4EF33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C4A-8FF6-4F01-B849-7F44FF57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ADE-9C0E-46BA-839C-3D3315AF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A782-9F36-4D8B-916C-6B6948B5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DFB1-7EF4-41A8-B659-2674A46F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7BAE-06BA-4DC4-A159-3D8FE0DA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1AE9-9510-4FCC-AE30-7D0689AC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D38C-0E04-4AE0-BCCA-4FC9A121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9F71-72CF-4C73-B311-387A514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01EA-78C6-4915-9C44-261F80C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762-1F66-46E0-9E2F-6B9B4A2B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C0A8-D7B7-4D6A-81BF-0A085960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9051-A954-4A89-984D-33B37B8A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9656-885E-4A12-9D81-E20E8ED6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0C50-782E-4597-85ED-962640F3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1D41-7CB7-418E-9385-20DFE91B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FDC-63AA-41E7-9329-3757497F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793-4FD4-4915-AB0E-7311F8D3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891-AA25-42A1-AAB3-999038C0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100-3597-4831-BB65-9EAFCB74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A9C-2090-46AA-9695-115C06DB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8CA-7092-444E-AFE4-EDD61D6C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EB3-91FE-413D-B373-A4A24265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B883-C9FE-4202-9D96-D73A32C426E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8E4D-7C2A-4EFE-A7F6-2B36854A82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48680" y="856800"/>
            <a:ext cx="67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U N I V E R S I T À     D E G L I      S T U D I   D I   C A T A N I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F   A   C   O   L   T   À        D   I        I   N   G   E   G  N   E   R   I  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rso   di       Ingegneria Costie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54080" y="3619080"/>
            <a:ext cx="704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ercitazione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evisione del moto ondoso a lungo term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52560" y="822240"/>
            <a:ext cx="88560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DF4B-0540-4DD0-86D0-598555005B60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ercita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3429000"/>
            <a:ext cx="76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ata la serie di altezze d’onda registrate dalla boa ondametrica di Mazara dal 1 luglio 1989 al 7 novembre 2006, calcolare la l’altezza d’onda di progetto con una probabilità di incontro pari al 20% con una vita utile della struttura di 25 ann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810108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ercita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2346480"/>
            <a:ext cx="4572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BUOY NETWORKS DATA FOR THE STATION OF MAZARA DEL VALLO FROM 1989-07-01 00:00 TO 2006-11-7 17:0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DATE - TIME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DIR (°N)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S (m)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1 00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89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7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1 03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9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5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1 06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6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5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1 09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8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5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1 12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68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4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1 15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5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5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1 18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301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6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1 21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87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5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2 00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4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4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2 03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3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2 06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9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2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2 09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69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1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2 12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69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2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2 15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87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4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2 18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8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3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2 21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9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6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3 00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7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0,7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3 03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84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,3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3 06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8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,2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3 09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87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,9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3 12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9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,6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3 15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6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,6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3 18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8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,7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3 21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7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,7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4 00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8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,4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89-07-04 03:00:00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276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,2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visione del moto ondo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0A31-DA73-4DA5-92FC-EDC71FC2E207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2349360"/>
            <a:ext cx="73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 determinazione dell’onda di progetto, spesso rappresentata dall’altezza d’onda significativa, è usualmente basata sull’analisi statistica di misurazione del moto ondoso di lungo period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505320"/>
            <a:ext cx="734544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’analisi viene usualmente condotta stiman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Tempo di ritorno: rappresenta l’intervallo medio di tempo affinchè si verifichi un evento pari o maggiore a quello considerat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robabilità d’incontro: rappresenta la probabilità che un evento si verifichi in un prefissato periodo di temp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visione del moto ondo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FA18-26E2-4BF1-A61E-B1D8899AB4E4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43828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o di ritorn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876920" y="2362320"/>
                <a:ext cx="12715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295280" y="2819520"/>
            <a:ext cx="41148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F(x)=Prob(X</a:t>
            </a:r>
            <a:r>
              <a:rPr b="0" lang="it-IT" sz="1600" spc="-1" strike="noStrike">
                <a:solidFill>
                  <a:srgbClr val="003366"/>
                </a:solidFill>
                <a:latin typeface="Symbol"/>
                <a:ea typeface="Symbol"/>
              </a:rPr>
              <a:t>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x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X   Altezza d’onda significativ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x  realizzazione di 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3366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=n/t Intensità di campionament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t Numero di anni di osservazioni di 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n Numero di osservazioni nel periodo 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37840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babilità di incontr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308640" y="5678640"/>
                <a:ext cx="11685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971640" y="5759280"/>
            <a:ext cx="451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Def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: Probabilità di superamento di x in un    tempo di vita utile della struttura pari a 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d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elta del data set delle misure/ricostruzioni di lungo periodo delle altezze d’o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elta delle distribuzioni teoriche di probabilit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ima dei parametri delle distribuzioni e scelta della distribu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olo delle altezze d’onda per fissati tempi di ritor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azione degli intervalli di confidenz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s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rie comple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rie dei massimi annual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erie dei valori sopra sogl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Le serie dei dati devono soddisfare le condizioni di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66"/>
                </a:solidFill>
                <a:uFillTx/>
                <a:latin typeface="Arial"/>
              </a:rPr>
              <a:t>Indipendenza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assenza di eventi tra loro correlat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66"/>
                </a:solidFill>
                <a:uFillTx/>
                <a:latin typeface="Arial"/>
              </a:rPr>
              <a:t>Omogeneità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dati nella stessa popolazione statistic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3366"/>
                </a:solidFill>
                <a:uFillTx/>
                <a:latin typeface="Arial"/>
              </a:rPr>
              <a:t>Stazionarietà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(variabilità del fenomeno trascurabil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eggi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uccessione di stati di mare durante la quale la altezza significativa H</a:t>
            </a:r>
            <a:r>
              <a:rPr b="0" lang="it-IT" sz="2400" spc="-1" strike="noStrike" baseline="-25000">
                <a:solidFill>
                  <a:srgbClr val="003366"/>
                </a:solidFill>
                <a:latin typeface="Arial"/>
              </a:rPr>
              <a:t>s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supera una soglia critica h</a:t>
            </a:r>
            <a:r>
              <a:rPr b="0" lang="it-IT" sz="2400" spc="-1" strike="noStrike" baseline="-25000">
                <a:solidFill>
                  <a:srgbClr val="003366"/>
                </a:solidFill>
                <a:latin typeface="Arial"/>
              </a:rPr>
              <a:t>crit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e non scende al di sotto di tale soglia per durate di tempo superiori ad un valore </a:t>
            </a:r>
            <a:r>
              <a:rPr b="0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it-IT" sz="2400" spc="-1" strike="noStrike" baseline="-25000">
                <a:solidFill>
                  <a:srgbClr val="003366"/>
                </a:solidFill>
                <a:latin typeface="Arial"/>
              </a:rPr>
              <a:t>crit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prefissa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nel Mediterraneo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it-IT" sz="2400" spc="-1" strike="noStrike" baseline="-25000">
                <a:solidFill>
                  <a:srgbClr val="003366"/>
                </a:solidFill>
                <a:latin typeface="Arial"/>
              </a:rPr>
              <a:t>crit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= 12 or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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it-IT" sz="2400" spc="-1" strike="noStrike" baseline="-25000">
                <a:solidFill>
                  <a:srgbClr val="003366"/>
                </a:solidFill>
                <a:latin typeface="Arial"/>
              </a:rPr>
              <a:t>crit 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= 2-3 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tribuzioni di probabilit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sponenzi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Weibu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umb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rech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og-Norm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962520" y="2438280"/>
                <a:ext cx="28112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962520" y="3048120"/>
                <a:ext cx="2914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924360" y="3781440"/>
                <a:ext cx="3024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924360" y="4581360"/>
                <a:ext cx="2590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38480" y="5410080"/>
                <a:ext cx="3003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ima dei parametri delle distribuzioni di probabilit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odo dei minimi quadr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odo della massima verosimiglia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200400"/>
            <a:ext cx="746748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Riscrivere la distribuzione come X=AY+B                    Y=-ln(-lnF)) Gumb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Ordinare la serie di n dati in modo cresc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Assegnare una probabilità di non superamen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Calcolare la y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della distribuzione corrispondente a ogni valore x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eterminare i coefficienti di regressio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410080" y="4876920"/>
                <a:ext cx="1554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315200" y="4952880"/>
                <a:ext cx="131436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ifica dell’adatta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efficiente di correlazione line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Errore medio rel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Test Probabilistici: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</a:t>
            </a:r>
            <a:r>
              <a:rPr b="0" lang="it-IT" sz="2800" spc="-1" strike="noStrike" baseline="30000">
                <a:solidFill>
                  <a:srgbClr val="003366"/>
                </a:solidFill>
                <a:latin typeface="Symbol"/>
                <a:ea typeface="Symbol"/>
              </a:rPr>
              <a:t>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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Kolmogorov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0:43:35Z</dcterms:created>
  <dc:creator>Rosaria Musumeci</dc:creator>
  <dc:description/>
  <dc:language>en-US</dc:language>
  <cp:lastModifiedBy>m</cp:lastModifiedBy>
  <dcterms:modified xsi:type="dcterms:W3CDTF">2010-05-18T14:44:02Z</dcterms:modified>
  <cp:revision>169</cp:revision>
  <dc:subject/>
  <dc:title>La relazione di dispersione</dc:title>
</cp:coreProperties>
</file>